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0DE9-6391-4BA1-86E4-FEAE644F5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AB7A-4E1F-4C7E-878D-1BE5DB745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A17E-D137-43A9-8D61-D60B5E5D3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6412-5770-4730-AD4B-E17A9663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058C-42B8-4E05-A712-239495FD1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9B70-F5DB-4673-A95A-1CFF4530B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B65F-CDDC-4FA5-B68B-69BEA782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84FA-76DB-4B11-9A69-96F20E1C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0015-F74E-4DD4-BE01-5A9880FE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B25A-9324-4AE7-AF9E-7912D0B4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FBBA-216D-4390-9D13-CACB4BFA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ACCE-4D7B-4512-8F16-F04D3283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6868-AD80-4339-A325-8F13A8F9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F435-8044-43E7-A4F4-1AB63DF7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6451-58ED-436D-B313-5A44BA405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image" Target="../media/image12.jpeg"/><Relationship Id="rId14" Type="http://schemas.openxmlformats.org/officeDocument/2006/relationships/image" Target="../media/image13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lyssa Ed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lyssa Edmond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lyssa Edmo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lyssa Edmo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ónde quieres viv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,y Buenos dias, Mi nombre es Alyssa. Yo vivo en New York. Yo tengo catorce años. Yo tengo una hermanas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Yo quero vivar en Itali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Estas bueno, Yo quero vivar en Lond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quero vivar en Hawaii, Alyssa et t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quero poder vivar en a bonita isl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 porque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hag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4267080" y="1905120"/>
            <a:ext cx="198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Photo on 12-6-12 at 9.37 AM.jpg"/>
          <p:cNvPicPr/>
          <p:nvPr/>
        </p:nvPicPr>
        <p:blipFill>
          <a:blip r:embed="rId12"/>
          <a:stretch/>
        </p:blipFill>
        <p:spPr>
          <a:xfrm>
            <a:off x="1962000" y="2514600"/>
            <a:ext cx="704880" cy="533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Photo on 12-6-12 at 9.45 AM.jpg"/>
          <p:cNvPicPr/>
          <p:nvPr/>
        </p:nvPicPr>
        <p:blipFill>
          <a:blip r:embed="rId13"/>
          <a:stretch/>
        </p:blipFill>
        <p:spPr>
          <a:xfrm>
            <a:off x="1981080" y="3200400"/>
            <a:ext cx="723960" cy="482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Photo on 12-6-12 at 9.46 AM.jpg"/>
          <p:cNvPicPr/>
          <p:nvPr/>
        </p:nvPicPr>
        <p:blipFill>
          <a:blip r:embed="rId14"/>
          <a:stretch/>
        </p:blipFill>
        <p:spPr>
          <a:xfrm>
            <a:off x="1981080" y="3809880"/>
            <a:ext cx="685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3-01-02T14:58:09Z</dcterms:modified>
  <cp:revision>108</cp:revision>
  <dc:subject/>
  <dc:title>Profile</dc:title>
</cp:coreProperties>
</file>